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F81-7070-43EF-9828-430592B6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BB6-D681-4CAB-A7C9-FCAE6BE5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192-ACA1-4143-99BE-3935319B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B59-9242-430C-A471-A3923018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ACE9-B469-451F-B881-B12B52A0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154C-DEBE-448E-A5A4-E0309C0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F413-D3B8-41A3-BB91-5302F8AE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D9F1-2946-4896-8697-7D652DC1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412C-207B-4A86-A471-F019F921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7C78-40F0-4500-9255-10777214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2E04-B569-4459-ABE8-2D9A989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F20-392B-4AFE-9C1F-D2827D13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5632-231A-422C-8A19-85F1954B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84B8-8A4C-4EA5-A31C-AA647DEC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15B5-4A15-490A-B0BB-ADFF15EE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4C2D-03C1-4C39-AFAE-2F8D79F9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1B65-64A7-40EB-9AA2-8EE470C5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59CA-886D-4934-AA5D-8D65208B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5425-5C20-4C83-8BA0-3D9B571D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C9C9-CEBD-4362-92E3-413E57FE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3ECE-8E5D-4D9F-ACD3-4B44793B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B43C-3AC5-4CE7-A323-A95C4CC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D47-F0A8-445E-AFBF-466BC58A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4143-B7D7-4A4D-B157-0F32A410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F5C8-7B90-4874-BE66-D8D812B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0700-3716-4557-98B0-B6A78D0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00D82-F8DF-4B60-97BB-2FC3C5B1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4CCF-0231-452A-8664-2DD0C978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AFA7-BDA7-4ADA-A289-DF6921ED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6121-5DBE-4BB9-B8C7-9BD84CB5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72D-84B2-4272-AD75-B5A1E8F0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F0F-FE24-425E-B129-90E3B07A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67B-0F0A-4CD4-9B16-AD35710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65B-F9E1-4F14-8B39-7F17E50C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AA8-1774-4ECF-9EF7-3E9F340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E73-F9E0-4BB2-8DF9-F0709A1B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E90A-6F5F-4054-93EB-BD2448F67A00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91F2-6335-4A12-B846-8EDD278F33E7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576360"/>
            <a:ext cx="623592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930320" y="1523880"/>
            <a:ext cx="6540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C551-9070-420F-ABAB-F1A7BCD130A1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17CF-1B59-405F-99E9-F795A2863B3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ZoneTexte 6"/>
          <p:cNvSpPr/>
          <p:nvPr/>
        </p:nvSpPr>
        <p:spPr>
          <a:xfrm>
            <a:off x="647640" y="20574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napshot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od Security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East Timor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65160" y="5245200"/>
            <a:ext cx="4711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U Delegation East Tim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30120" y="16635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35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Under FSTP 2007-2010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food security programe to tackle immediate causes of food insecurity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9 projects in 7 districts targeting 27,000 households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otal budget of 12 million Euro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Main components/results: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reased food production: improved access to seeds and improved farming system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mproved access to food: alternative sources of inco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mproved food utilization through better knowledg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rengthen community level social safety nets and Disaster management committees at District (DDMC) and Suco level (SDMC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rtners: OXFAM, CARE, World Vision, World Neighbours, HIVOS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C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0880" y="18921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501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Under FSTP: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novative approaches to food insecur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-3 projects in the areas of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-2372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rain and seed storage/reduced postharvest los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-2372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eed product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-2372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mproved water harvest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tal budget of 2.2 million Euro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fP to be launched in last quarter of 2010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otential partners: NSA, UN (FAO?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C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30120" y="1485720"/>
            <a:ext cx="7251840" cy="31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26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26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ural Development programmes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6720" indent="-126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DP II: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 million Euro: agriculture (with focus on increased productivity and diversification) and rural roads. Districts of Bobonaro and Covalima. Implemented by GTZ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6720" indent="-126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DP III: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9 million Euro: agriculture (with focus on increased productivity and diversification) and rural roads. District of Manufahi. Implemented by Landell Mil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6720" indent="-126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DP IV (under formulation)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3.5 million Euro: agriculture (with focus on extension services) and rural roads. In all 13 districts of the country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plementation partner to be defined (joint GTZ+IPAD?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2200" y="160092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C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30120" y="1485720"/>
            <a:ext cx="7251840" cy="31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21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21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ional and District food security committees 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every three month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ired by MAF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ional priority 2 (food security) partner meet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every mon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ordinated by WFP and USAI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nor FS harmonization meet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every three month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ired by MAF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uplication of efforts, lack of coordination outputs, “coordination fatigu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22200" y="160092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FS coordin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79360" y="12063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21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21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STP and RDP often address similar FS constraints (i.e. availability and access to food)  with different approaches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re is a need to look for complementarity, coherence and synergies between both programme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e.g. RDP support to improved seeds programmes is a critical asset for FS projects)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mproved coordin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increase efficiency: less meetings but results oriented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in EC funded programm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in the donor commun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ilding up on lessons learned.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mproved inter-ministerial dialogue (MAF and MoH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upport the ongoing decentralization process (more control to district officials on FS issues).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22200" y="160092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way forwar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79640" y="2981160"/>
            <a:ext cx="6635520" cy="2311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663560" y="21589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9945-017B-4577-B244-DA153B470A5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ZoneTexte 2"/>
          <p:cNvSpPr/>
          <p:nvPr/>
        </p:nvSpPr>
        <p:spPr>
          <a:xfrm>
            <a:off x="660240" y="1692360"/>
            <a:ext cx="67564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mor Leste, country contex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od security, indicators and caus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EC programmes and EU Deleg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 Response :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od Security &amp; Rural development projects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way forward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830240" y="1362240"/>
          <a:ext cx="6181920" cy="410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0240" y="1362240"/>
                    <a:ext cx="618192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3"/>
          <p:cNvSpPr/>
          <p:nvPr/>
        </p:nvSpPr>
        <p:spPr>
          <a:xfrm>
            <a:off x="1752480" y="4397400"/>
            <a:ext cx="73915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Size: 15,000 Km2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pulation: 1.1 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Key natural resource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large reserves of oil and gas being exploited jointly by Australia and Timor Leste in the disputed waters of the Timor se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34800" y="1423440"/>
            <a:ext cx="386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ountry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46120" y="21715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999: referendum ends Indonesian occup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25 years of conflict between the FALINTIL independentist guerilla and the Indonensian army (20-25% of population dead or disappeared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2: the country declares independenc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elects its first democratic governmen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6: clashe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etween the Timorese army and poli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ugust 2006: international UN peace mission UNMI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preceded by other 3 missions since the independence referendum in 1999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7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second presidential and parlamentar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lec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8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Coordinated simultaneou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urder attempts against the president and the prime minister perpetrated by ex-army official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22200" y="1677240"/>
            <a:ext cx="510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ountry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46120" y="21715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grim picture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DI: 141 among 179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oil GDP per capita US$453 (in 2008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pulation growth 3.5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employment 23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ople living bellow poverty line 4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n oil+gas make a differenc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DP growth in 2008 13.2%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troleum fund: sustainable annual income of US$ 400 mill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ountry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46120" y="21715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80% population lives in rural areas and relies on subsistence agriculture (although rapid  urbanisation underway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ildren under 5 suffering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onic malnutrition 46%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derweight 4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unting 54%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asting 25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6% of pregnant mothers suffer from anemia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2200" y="1677240"/>
            <a:ext cx="541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some figures on foo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22200" y="1677240"/>
            <a:ext cx="541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auses of food insecurity I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40120" y="2647080"/>
            <a:ext cx="23619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ood In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2120" y="3867120"/>
            <a:ext cx="255276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sufficient foo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64% population suffering from food shortages during the lean season (4 month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52720" y="3886200"/>
            <a:ext cx="275580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orly diversified die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75% of households  rely exclusively on maize, rice, cassava and sweet potato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73760" y="3867120"/>
            <a:ext cx="255276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appropriate utilization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31% exclusive breastfeeding &lt;6 month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3073320"/>
            <a:ext cx="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87600" y="3517920"/>
            <a:ext cx="25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0" y="3530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351792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4040" y="3517920"/>
            <a:ext cx="314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13680" y="3530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322200" y="1677240"/>
            <a:ext cx="541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auses of food insecurity II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93920" y="3684600"/>
            <a:ext cx="2248200" cy="1220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sufficient foo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64% population suffering from food shortages during the lean season (4 month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2120" y="3296160"/>
            <a:ext cx="2552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atic rains and poor water managem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oor water harvesting or irrigation practic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2120" y="4679640"/>
            <a:ext cx="255276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ow soil fertility, difficult access to inputs, poor agr. practic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52520" y="2310120"/>
            <a:ext cx="2552760" cy="7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mall land holding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25% population less of 0.5 ha.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0560" y="5574240"/>
            <a:ext cx="2552760" cy="7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st harvest los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30% to 40% of postharvest losses for rice and maiz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4794480"/>
            <a:ext cx="255276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ow yielding varieti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No Government policy on research for improved varieti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2680" y="3331080"/>
            <a:ext cx="27306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Government policy on subsidized imported ric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iscouragement to local producer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03680" y="2110320"/>
            <a:ext cx="2552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ack of alternative sources of income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40% of rural unemployment rate, low wages.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06560" y="4064040"/>
            <a:ext cx="29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32120" y="4800600"/>
            <a:ext cx="2793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343400" y="50418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486400" y="4673520"/>
            <a:ext cx="177840" cy="2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575320" y="403848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838400" y="3225960"/>
            <a:ext cx="304920" cy="29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3213000"/>
            <a:ext cx="27972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82880" y="4978440"/>
            <a:ext cx="279360" cy="279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83080" y="5054760"/>
            <a:ext cx="12600" cy="419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49760" y="4533840"/>
            <a:ext cx="190800" cy="216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016600" y="3263760"/>
            <a:ext cx="266760" cy="292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880" y="18921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39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 2005 Timor Lest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joins the ACP-EC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Partnership Agreemen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 2008 th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elegation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of the European Commission in Timor-Leste ar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fficially inaugurated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in Dili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 2008 signature of th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ountry Strategy Pap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and National Indicative Programme between the European Union and Timor-Leste (2008-2013) an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dicative allocation of 63 million Euro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(plus addendum for increase in 18 million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EC is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urth largest dono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n East Timor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agile state status until February 2011 (unstable political situation, weak administration, marginal private secto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U deleg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dministrator</cp:lastModifiedBy>
  <cp:lastPrinted>2003-11-06T16:40:02Z</cp:lastPrinted>
  <dcterms:modified xsi:type="dcterms:W3CDTF">2010-06-25T01:52:50Z</dcterms:modified>
  <cp:revision>887</cp:revision>
  <dc:subject/>
  <dc:title>No Slide Title</dc:title>
</cp:coreProperties>
</file>